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50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42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52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3.png" ContentType="image/png"/>
  <Override PartName="/ppt/media/chimes.wav" ContentType="audio/x-wav"/>
  <Override PartName="/ppt/media/image25.jpeg" ContentType="image/jpeg"/>
  <Override PartName="/ppt/media/image34.wmf" ContentType="image/x-wmf"/>
  <Override PartName="/ppt/media/image5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36.wmf" ContentType="image/x-wmf"/>
  <Override PartName="/ppt/media/image46.jpeg" ContentType="image/jpeg"/>
  <Override PartName="/ppt/media/image47.wmf" ContentType="image/x-wmf"/>
  <Override PartName="/ppt/media/image48.jpeg" ContentType="image/jpeg"/>
  <Override PartName="/ppt/media/image39.wmf" ContentType="image/x-wmf"/>
  <Override PartName="/ppt/media/image49.jpeg" ContentType="image/jpeg"/>
  <Override PartName="/ppt/media/image30.jpeg" ContentType="image/jpeg"/>
  <Override PartName="/ppt/media/image33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B75-1F86-45ED-A59F-CC97D57E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1E6-5724-44CC-9165-847D155C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2A7-091E-46E9-948B-74DB1835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9FE-330C-4950-995E-EB36A906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B01-1241-48BE-9C04-6BD07BA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CC7-CEA5-4CF4-B59B-3DAAEB6F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EA0-9B50-4155-8B79-63DDA21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1D5-EA12-48BB-BA2B-0E05093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55A-4A93-4DE7-9510-395AB9C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0A0-22D2-470E-A20D-65872C7B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B59-FA0F-4DF1-8665-736443D8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EBD-48CB-4F17-A236-ACF7C77A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6841-AB23-4104-84C8-6A0C74FC9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124080" y="3962520"/>
            <a:ext cx="2819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C:\Documents and Settings\Mrs. Jefferson\Local Settings\Temporary Internet Files\Content.IE5\S1Y9HMWA\MC900286528[1].wmf"/>
          <p:cNvPicPr/>
          <p:nvPr/>
        </p:nvPicPr>
        <p:blipFill>
          <a:blip r:embed="rId1"/>
          <a:stretch/>
        </p:blipFill>
        <p:spPr>
          <a:xfrm>
            <a:off x="380880" y="4495680"/>
            <a:ext cx="1806840" cy="167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C:\Documents and Settings\Mrs. Jefferson\Local Settings\Temporary Internet Files\Content.IE5\S9S3JBR3\MC900130271[1].wmf"/>
          <p:cNvPicPr/>
          <p:nvPr/>
        </p:nvPicPr>
        <p:blipFill>
          <a:blip r:embed="rId2"/>
          <a:stretch/>
        </p:blipFill>
        <p:spPr>
          <a:xfrm>
            <a:off x="6400800" y="914400"/>
            <a:ext cx="1852560" cy="169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retionary calories are calories that you have left over after you have met your nutrient requirements with choices from MyPyramid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ey can be used for that piece of cake you wanted after eating right all da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nk of your daily calorie limit as a budget and as you eat throughout the day, you spend some of your money (calories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ell, if you have paid for all the needs or necessities then you are left with “extra” spending money for things you would like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9" name="Picture 15" descr="C:\Documents and Settings\Mrs. Jefferson\Local Settings\Temporary Internet Files\Content.IE5\V5WFIWPL\MC900250659[1].wmf"/>
          <p:cNvPicPr/>
          <p:nvPr/>
        </p:nvPicPr>
        <p:blipFill>
          <a:blip r:embed="rId3"/>
          <a:stretch/>
        </p:blipFill>
        <p:spPr>
          <a:xfrm>
            <a:off x="6019920" y="4419720"/>
            <a:ext cx="23540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ong with eating right, one must also do an adequate amount of physical activit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s usually helps  prevent weight gain and many other health related problems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should strive for 60 minutes a day, but at least 30 is the least amount.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ome types of physical activity would include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alking briskly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ik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anc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wimm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Basketball/footbal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Bicycling, etc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2" name="Picture 5" descr="C:\Documents and Settings\Mrs. Jefferson\Local Settings\Temporary Internet Files\Content.IE5\S9S3JBR3\MC900242173[1].wmf"/>
          <p:cNvPicPr/>
          <p:nvPr/>
        </p:nvPicPr>
        <p:blipFill>
          <a:blip r:embed="rId1"/>
          <a:stretch/>
        </p:blipFill>
        <p:spPr>
          <a:xfrm>
            <a:off x="6858000" y="3657600"/>
            <a:ext cx="1670040" cy="287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Documents and Settings\Mrs. Jefferson\Local Settings\Temporary Internet Files\Content.IE5\S9S3JBR3\MC900295449[1].wmf"/>
          <p:cNvPicPr/>
          <p:nvPr/>
        </p:nvPicPr>
        <p:blipFill>
          <a:blip r:embed="rId2"/>
          <a:stretch/>
        </p:blipFill>
        <p:spPr>
          <a:xfrm>
            <a:off x="228600" y="3809880"/>
            <a:ext cx="1703520" cy="2857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Documents and Settings\Mrs. Jefferson\Local Settings\Temporary Internet Files\Content.IE5\ISJDE4NR\MC900242171[1].wmf"/>
          <p:cNvPicPr/>
          <p:nvPr/>
        </p:nvPicPr>
        <p:blipFill>
          <a:blip r:embed="rId3"/>
          <a:stretch/>
        </p:blipFill>
        <p:spPr>
          <a:xfrm>
            <a:off x="5334120" y="4648320"/>
            <a:ext cx="15667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etary Guidelines for America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Cover of Dietary Guidelines for Americans 2005"/>
          <p:cNvPicPr/>
          <p:nvPr/>
        </p:nvPicPr>
        <p:blipFill>
          <a:blip r:embed="rId1"/>
          <a:stretch/>
        </p:blipFill>
        <p:spPr>
          <a:xfrm>
            <a:off x="2286000" y="1547640"/>
            <a:ext cx="48769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.  Get adequate nutrients within the calorie nee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Century Gothic"/>
              </a:rPr>
              <a:t>Caloric Breakdown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rbohydrates:  55-60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Fat:  No more than 30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Protein:  10-15 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verage American eats too much fat, sugar, calories &amp; sodium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verage American doesn’t eat enough fiber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Picture 10" descr="Calorie Sources"/>
          <p:cNvPicPr/>
          <p:nvPr/>
        </p:nvPicPr>
        <p:blipFill>
          <a:blip r:embed="rId1"/>
          <a:stretch/>
        </p:blipFill>
        <p:spPr>
          <a:xfrm>
            <a:off x="4952880" y="1828800"/>
            <a:ext cx="31035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.  Manage weight, balance food intake with exercise outpu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1" name="Picture 2" descr="C:\Documents and Settings\Mrs. Jefferson\Local Settings\Temporary Internet Files\Content.IE5\U9B17W9Z\MC900001154[1].wmf"/>
          <p:cNvPicPr/>
          <p:nvPr/>
        </p:nvPicPr>
        <p:blipFill>
          <a:blip r:embed="rId1"/>
          <a:stretch/>
        </p:blipFill>
        <p:spPr>
          <a:xfrm>
            <a:off x="3276720" y="1974960"/>
            <a:ext cx="2819160" cy="43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.  Be physically active each da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3" name="Picture 4" descr="fit00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4.  Choose a variety of fruits, vegetables, whole grains and fat free or low fat milk products daily.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5" name="Picture 5" descr="748_T"/>
          <p:cNvPicPr/>
          <p:nvPr/>
        </p:nvPicPr>
        <p:blipFill>
          <a:blip r:embed="rId1"/>
          <a:stretch/>
        </p:blipFill>
        <p:spPr>
          <a:xfrm>
            <a:off x="1066680" y="4800600"/>
            <a:ext cx="1752840" cy="1352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776_O"/>
          <p:cNvPicPr/>
          <p:nvPr/>
        </p:nvPicPr>
        <p:blipFill>
          <a:blip r:embed="rId2"/>
          <a:stretch/>
        </p:blipFill>
        <p:spPr>
          <a:xfrm>
            <a:off x="3429000" y="3809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935_T"/>
          <p:cNvPicPr/>
          <p:nvPr/>
        </p:nvPicPr>
        <p:blipFill>
          <a:blip r:embed="rId3"/>
          <a:stretch/>
        </p:blipFill>
        <p:spPr>
          <a:xfrm>
            <a:off x="3733920" y="2209680"/>
            <a:ext cx="1533240" cy="118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772_O"/>
          <p:cNvPicPr/>
          <p:nvPr/>
        </p:nvPicPr>
        <p:blipFill>
          <a:blip r:embed="rId4"/>
          <a:stretch/>
        </p:blipFill>
        <p:spPr>
          <a:xfrm>
            <a:off x="6400800" y="251460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What's 'In Store' for Dairy"/>
          <p:cNvPicPr/>
          <p:nvPr/>
        </p:nvPicPr>
        <p:blipFill>
          <a:blip r:embed="rId5"/>
          <a:stretch/>
        </p:blipFill>
        <p:spPr>
          <a:xfrm>
            <a:off x="609480" y="1981080"/>
            <a:ext cx="239076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5.  Monitor your intake of fa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atch for naturally occurring invisible fat in foods such as avocados, olives, milk, eggs, etc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2" name="Picture 6" descr="Crisco Products"/>
          <p:cNvPicPr/>
          <p:nvPr/>
        </p:nvPicPr>
        <p:blipFill>
          <a:blip r:embed="rId1"/>
          <a:stretch/>
        </p:blipFill>
        <p:spPr>
          <a:xfrm>
            <a:off x="5486400" y="3733920"/>
            <a:ext cx="3125880" cy="239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t3.gstatic.com/images?q=tbn:ANd9GcTpLXK7Aili2fFJ75ld6mnzsDToMCVd4bRMmrJBiN5j6-fU4Tw&amp;t=1&amp;h=157&amp;w=237&amp;usg=__-M_bE_g6zhIeNGM4-gGLg-bNtFw="/>
          <p:cNvPicPr/>
          <p:nvPr/>
        </p:nvPicPr>
        <p:blipFill>
          <a:blip r:embed="rId2"/>
          <a:stretch/>
        </p:blipFill>
        <p:spPr>
          <a:xfrm>
            <a:off x="914400" y="4114800"/>
            <a:ext cx="2819520" cy="185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t1.gstatic.com/images?q=tbn:ANd9GcRIsBOguuvX9RRmb5p5nAG_BrNtiBathaBc7ijppSozP_2GExU&amp;t=1&amp;h=167&amp;w=223&amp;usg=__rOhXHE4EkrOVlaiffLmv4U_-04c="/>
          <p:cNvPicPr/>
          <p:nvPr/>
        </p:nvPicPr>
        <p:blipFill>
          <a:blip r:embed="rId3"/>
          <a:stretch/>
        </p:blipFill>
        <p:spPr>
          <a:xfrm>
            <a:off x="3581280" y="441972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Documents and Settings\Mrs. Jefferson\Local Settings\Temporary Internet Files\Content.IE5\CXGSD8L9\MC900154778[1].wmf"/>
          <p:cNvPicPr/>
          <p:nvPr/>
        </p:nvPicPr>
        <p:blipFill>
          <a:blip r:embed="rId1"/>
          <a:stretch/>
        </p:blipFill>
        <p:spPr>
          <a:xfrm>
            <a:off x="1600200" y="2819520"/>
            <a:ext cx="2133720" cy="25700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6.  Choose carbohydrates wise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hoose fruits, vegetables and whole grains.  Limit suga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8" name="Picture 4" descr="snacksodacollection"/>
          <p:cNvPicPr/>
          <p:nvPr/>
        </p:nvPicPr>
        <p:blipFill>
          <a:blip r:embed="rId2"/>
          <a:stretch/>
        </p:blipFill>
        <p:spPr>
          <a:xfrm>
            <a:off x="5075280" y="2514600"/>
            <a:ext cx="3116160" cy="3371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Mrs. Jefferson\Local Settings\Temporary Internet Files\Content.IE5\U9B17W9Z\MC900445714[1].wmf"/>
          <p:cNvPicPr/>
          <p:nvPr/>
        </p:nvPicPr>
        <p:blipFill>
          <a:blip r:embed="rId3"/>
          <a:stretch/>
        </p:blipFill>
        <p:spPr>
          <a:xfrm>
            <a:off x="304920" y="4419720"/>
            <a:ext cx="2460600" cy="1752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Mrs. Jefferson\Local Settings\Temporary Internet Files\Content.IE5\3YIBSQ19\MC900445718[1].wmf"/>
          <p:cNvPicPr/>
          <p:nvPr/>
        </p:nvPicPr>
        <p:blipFill>
          <a:blip r:embed="rId4"/>
          <a:stretch/>
        </p:blipFill>
        <p:spPr>
          <a:xfrm>
            <a:off x="1905120" y="4648320"/>
            <a:ext cx="243180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7.  Watch your intake of sodiu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What can too much salt/sodium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o to your body?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an cause high blood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essure and heart disease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Where does it hide? 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In prepared foods (frozen,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anned, etc.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3" name="Picture 6" descr="fit275"/>
          <p:cNvPicPr/>
          <p:nvPr/>
        </p:nvPicPr>
        <p:blipFill>
          <a:blip r:embed="rId1"/>
          <a:stretch/>
        </p:blipFill>
        <p:spPr>
          <a:xfrm>
            <a:off x="5257800" y="2057400"/>
            <a:ext cx="2824200" cy="21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Mrs. Jefferson\Local Settings\Temporary Internet Files\Content.IE5\PGUXATFU\MC900199440[1].wmf"/>
          <p:cNvPicPr/>
          <p:nvPr/>
        </p:nvPicPr>
        <p:blipFill>
          <a:blip r:embed="rId2"/>
          <a:stretch/>
        </p:blipFill>
        <p:spPr>
          <a:xfrm>
            <a:off x="5105520" y="434340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ating right everyday is a good way of insuring your health presently and in the future.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eat right, you must make sure to eat balanced meals daily by eating from each of the food group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685800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mplete the MyFood Tracking Worksheet to determine how you score on the MyPyramid daily goal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member that the better foods you eat and the more active you are, the healthier you will b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7" name="Picture 21" descr="C:\Documents and Settings\Mrs. Jefferson\Local Settings\Temporary Internet Files\Content.IE5\YHMZUSOC\MC900437379[1].jpg"/>
          <p:cNvPicPr/>
          <p:nvPr/>
        </p:nvPicPr>
        <p:blipFill>
          <a:blip r:embed="rId1"/>
          <a:stretch/>
        </p:blipFill>
        <p:spPr>
          <a:xfrm>
            <a:off x="762120" y="2895480"/>
            <a:ext cx="3962160" cy="3754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C:\Documents and Settings\Mrs. Jefferson\Local Settings\Temporary Internet Files\Content.IE5\U9B17W9Z\MC900286866[1].wmf"/>
          <p:cNvPicPr/>
          <p:nvPr/>
        </p:nvPicPr>
        <p:blipFill>
          <a:blip r:embed="rId2"/>
          <a:stretch/>
        </p:blipFill>
        <p:spPr>
          <a:xfrm>
            <a:off x="5943600" y="3886200"/>
            <a:ext cx="266688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Serving Size Quiz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does a serving size look lik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676520" y="4800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changes of the new MyPyramid from servings to amounts, it seems to have everyone a little confused on portions.  Let’s test your knowled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Mrs. Jefferson\Local Settings\Temporary Internet Files\Content.IE5\CXGSD8L9\MC900112932[1].wmf"/>
          <p:cNvPicPr/>
          <p:nvPr/>
        </p:nvPicPr>
        <p:blipFill>
          <a:blip r:embed="rId1"/>
          <a:stretch/>
        </p:blipFill>
        <p:spPr>
          <a:xfrm>
            <a:off x="2819520" y="2286000"/>
            <a:ext cx="33890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huge bag of Ruffles is helping you get through your science homework.  You polish off about ½ a bag or 50 chips.  How many servings of chips have you just eaten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-59040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-59040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 1/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-59040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5" name="Picture 4" descr="ruffles.jpg"/>
          <p:cNvPicPr/>
          <p:nvPr/>
        </p:nvPicPr>
        <p:blipFill>
          <a:blip r:embed="rId1"/>
          <a:stretch/>
        </p:blipFill>
        <p:spPr>
          <a:xfrm>
            <a:off x="3276720" y="3429000"/>
            <a:ext cx="26668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fficial serving of Ruffles is one ounce, which is about 10 chips.  Half a bag is 5 serving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8" name="Picture 3" descr="open chips.jpg"/>
          <p:cNvPicPr/>
          <p:nvPr/>
        </p:nvPicPr>
        <p:blipFill>
          <a:blip r:embed="rId1"/>
          <a:stretch/>
        </p:blipFill>
        <p:spPr>
          <a:xfrm>
            <a:off x="4011480" y="3124080"/>
            <a:ext cx="409428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e serving of steak is about as big as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deck of card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Howie Day CD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ca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.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paperback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1" name="Picture 4" descr="grill_steak"/>
          <p:cNvPicPr/>
          <p:nvPr/>
        </p:nvPicPr>
        <p:blipFill>
          <a:blip r:embed="rId1"/>
          <a:stretch/>
        </p:blipFill>
        <p:spPr>
          <a:xfrm>
            <a:off x="5105520" y="3505320"/>
            <a:ext cx="3182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Answer:  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fficial serving of steak is three ounces or about as big as a deck of cards.  A typical slab you would get at a steak house would be five times that siz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4" name="Picture 2" descr="C:\Documents and Settings\Mrs. Jefferson\Local Settings\Temporary Internet Files\Content.IE5\CXGSD8L9\MC900433900[1].png"/>
          <p:cNvPicPr/>
          <p:nvPr/>
        </p:nvPicPr>
        <p:blipFill>
          <a:blip r:embed="rId1"/>
          <a:stretch/>
        </p:blipFill>
        <p:spPr>
          <a:xfrm>
            <a:off x="4724280" y="327672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ccording to the label on a package of Oreos, one serving has 100 calories and five grams of fat.  How many cookies a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 a serving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7" name="Picture 4" descr="Oreo_bite"/>
          <p:cNvPicPr/>
          <p:nvPr/>
        </p:nvPicPr>
        <p:blipFill>
          <a:blip r:embed="rId1"/>
          <a:stretch/>
        </p:blipFill>
        <p:spPr>
          <a:xfrm>
            <a:off x="5257800" y="3200400"/>
            <a:ext cx="24811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Answer:  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fficial serving of Oreos is 2 cookies.  But who can stop at just 2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0" name="Picture 3" descr="cookie serving.jpg"/>
          <p:cNvPicPr/>
          <p:nvPr/>
        </p:nvPicPr>
        <p:blipFill>
          <a:blip r:embed="rId1"/>
          <a:stretch/>
        </p:blipFill>
        <p:spPr>
          <a:xfrm>
            <a:off x="3809880" y="2743200"/>
            <a:ext cx="390996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label on your favorite brand of ultrasinful ice cream says that one serving has a killer 300 calories and 15 grams of fat.  How many scoops are in one serving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3" name="Picture 4" descr="dis_candy"/>
          <p:cNvPicPr/>
          <p:nvPr/>
        </p:nvPicPr>
        <p:blipFill>
          <a:blip r:embed="rId1"/>
          <a:stretch/>
        </p:blipFill>
        <p:spPr>
          <a:xfrm>
            <a:off x="5715000" y="3429000"/>
            <a:ext cx="2162160" cy="26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e official serving is one scoop, just ½ a cup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6" name="Picture 2" descr="C:\Documents and Settings\Mrs. Jefferson\Local Settings\Temporary Internet Files\Content.IE5\U9B17W9Z\MC900412510[1].wmf"/>
          <p:cNvPicPr/>
          <p:nvPr/>
        </p:nvPicPr>
        <p:blipFill>
          <a:blip r:embed="rId1"/>
          <a:stretch/>
        </p:blipFill>
        <p:spPr>
          <a:xfrm>
            <a:off x="3657600" y="2362320"/>
            <a:ext cx="22636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“official” serving of french fries contains 3 ounces.  How many servings are in a McDonald’s Super Size french fri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9" name="Picture 4" descr="Small French Fries"/>
          <p:cNvPicPr/>
          <p:nvPr/>
        </p:nvPicPr>
        <p:blipFill>
          <a:blip r:embed="rId1"/>
          <a:stretch/>
        </p:blipFill>
        <p:spPr>
          <a:xfrm>
            <a:off x="4572000" y="3124080"/>
            <a:ext cx="349560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Super Size french fries contains three official servings, adding up to 540 calori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2" name="Picture 3" descr="super size.jpg"/>
          <p:cNvPicPr/>
          <p:nvPr/>
        </p:nvPicPr>
        <p:blipFill>
          <a:blip r:embed="rId1"/>
          <a:stretch/>
        </p:blipFill>
        <p:spPr>
          <a:xfrm>
            <a:off x="4495680" y="2743200"/>
            <a:ext cx="2743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7-Eleven Double Gulp contains how many servings of soda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5" name="Picture 4" descr="711_biggulpcola_d"/>
          <p:cNvPicPr/>
          <p:nvPr/>
        </p:nvPicPr>
        <p:blipFill>
          <a:blip r:embed="rId1"/>
          <a:stretch/>
        </p:blipFill>
        <p:spPr>
          <a:xfrm>
            <a:off x="5105520" y="2590920"/>
            <a:ext cx="338616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Double Gulp has eight servings, more than enough to quench the thirst of a large family. A can of soda contains 1 ½ serving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8" name="Picture 2" descr="C:\Documents and Settings\Mrs. Jefferson\Local Settings\Temporary Internet Files\Content.IE5\PGUXATFU\MC900433913[1].png"/>
          <p:cNvPicPr/>
          <p:nvPr/>
        </p:nvPicPr>
        <p:blipFill>
          <a:blip r:embed="rId1"/>
          <a:stretch/>
        </p:blipFill>
        <p:spPr>
          <a:xfrm>
            <a:off x="9907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Documents and Settings\Mrs. Jefferson\Local Settings\Temporary Internet Files\Content.IE5\PGUXATFU\MC900433913[1].png"/>
          <p:cNvPicPr/>
          <p:nvPr/>
        </p:nvPicPr>
        <p:blipFill>
          <a:blip r:embed="rId2"/>
          <a:stretch/>
        </p:blipFill>
        <p:spPr>
          <a:xfrm>
            <a:off x="66294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Documents and Settings\Mrs. Jefferson\Local Settings\Temporary Internet Files\Content.IE5\PGUXATFU\MC900433913[1].png"/>
          <p:cNvPicPr/>
          <p:nvPr/>
        </p:nvPicPr>
        <p:blipFill>
          <a:blip r:embed="rId3"/>
          <a:stretch/>
        </p:blipFill>
        <p:spPr>
          <a:xfrm>
            <a:off x="64771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Documents and Settings\Mrs. Jefferson\Local Settings\Temporary Internet Files\Content.IE5\PGUXATFU\MC900433913[1].png"/>
          <p:cNvPicPr/>
          <p:nvPr/>
        </p:nvPicPr>
        <p:blipFill>
          <a:blip r:embed="rId4"/>
          <a:stretch/>
        </p:blipFill>
        <p:spPr>
          <a:xfrm>
            <a:off x="472428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C:\Documents and Settings\Mrs. Jefferson\Local Settings\Temporary Internet Files\Content.IE5\PGUXATFU\MC900433913[1].png"/>
          <p:cNvPicPr/>
          <p:nvPr/>
        </p:nvPicPr>
        <p:blipFill>
          <a:blip r:embed="rId5"/>
          <a:stretch/>
        </p:blipFill>
        <p:spPr>
          <a:xfrm>
            <a:off x="46483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Documents and Settings\Mrs. Jefferson\Local Settings\Temporary Internet Files\Content.IE5\PGUXATFU\MC900433913[1].png"/>
          <p:cNvPicPr/>
          <p:nvPr/>
        </p:nvPicPr>
        <p:blipFill>
          <a:blip r:embed="rId6"/>
          <a:stretch/>
        </p:blipFill>
        <p:spPr>
          <a:xfrm>
            <a:off x="274320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C:\Documents and Settings\Mrs. Jefferson\Local Settings\Temporary Internet Files\Content.IE5\PGUXATFU\MC900433913[1].png"/>
          <p:cNvPicPr/>
          <p:nvPr/>
        </p:nvPicPr>
        <p:blipFill>
          <a:blip r:embed="rId7"/>
          <a:stretch/>
        </p:blipFill>
        <p:spPr>
          <a:xfrm>
            <a:off x="2819520" y="33526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C:\Documents and Settings\Mrs. Jefferson\Local Settings\Temporary Internet Files\Content.IE5\PGUXATFU\MC900433913[1].png"/>
          <p:cNvPicPr/>
          <p:nvPr/>
        </p:nvPicPr>
        <p:blipFill>
          <a:blip r:embed="rId8"/>
          <a:stretch/>
        </p:blipFill>
        <p:spPr>
          <a:xfrm>
            <a:off x="990720" y="4800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 how did you d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7" name="Picture 3" descr="C:\Documents and Settings\Mrs. Jefferson\Local Settings\Temporary Internet Files\Content.IE5\U9B17W9Z\MC900060279[1].wmf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t at least 3 ounces of grains dai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ains have 2 subgroup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ole grains such as whole grain bread and flour, brown rice, oatmeal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fined grains that are missing a lot of dietary fiber, iron and vitamins such as white rice, white flour, white brea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ods that are considered grains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read, cereal, rice, crackers, past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31" descr="Grains"/>
          <p:cNvPicPr/>
          <p:nvPr/>
        </p:nvPicPr>
        <p:blipFill>
          <a:blip r:embed="rId2"/>
          <a:stretch/>
        </p:blipFill>
        <p:spPr>
          <a:xfrm>
            <a:off x="2895480" y="5181480"/>
            <a:ext cx="368316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t at least 2 ½ cups dail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getables may be raw, cooked, fresh, frozen, canned, dried/dehydrated, whole, cut or mash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arker in color=the more nutrients and antioxidants the vegetables hav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me vegetables would b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19840" indent="-19980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arrots, greens, beans, cauliflower, cucumbers, squash, zucchini, potatoes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Fruits</a:t>
            </a: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t at least 1 ½ to 2 cups dai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uits are naturally sweet and great to use for desser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uit may be fresh, canned, frozen, dried, whole, cut up or pure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arker the color- the higher the antioxidan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uit choices includ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pples, oranges, bananas, grapes, plums, watermelon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commended daily allowance for meat is 5-6 ounces dail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ost meat and poultry choices should be lean or low f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ake, broil, grill or sauté with olive oil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atty fish, like salmon and nuts like walnuts and almonds contain heart healthy unsaturated fats and omega-3 fatty acid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me meat choices includ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am, chicken, fish, eggs, nuts, steak, burgers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commended daily allowance for the milk group is 3 cups dai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ods made from milk that retain their calcium are a part of this group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ods that have little to no calcium are not such as cream cheese, cream, and but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lk products would includ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lk, cheese, yogurt, ice cream, puddings made with milk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Oils</a:t>
            </a: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commended daily allowance for oil is 5-6 teaspo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imit solid (saturated) fats like butter, margarine, shortening and lar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void foods with trans-fat, created by hydrogenated oils added to food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ost Americans consume enough oil from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u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alad dressing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oking oi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4" name="Picture 19" descr="Oils"/>
          <p:cNvPicPr/>
          <p:nvPr/>
        </p:nvPicPr>
        <p:blipFill>
          <a:blip r:embed="rId2"/>
          <a:stretch/>
        </p:blipFill>
        <p:spPr>
          <a:xfrm>
            <a:off x="4876920" y="4648320"/>
            <a:ext cx="1904760" cy="188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0:04:39Z</dcterms:created>
  <dc:creator>Connie Campbell</dc:creator>
  <dc:description/>
  <dc:language>en-US</dc:language>
  <cp:lastModifiedBy>Kidd</cp:lastModifiedBy>
  <dcterms:modified xsi:type="dcterms:W3CDTF">2012-11-24T03:18:15Z</dcterms:modified>
  <cp:revision>11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